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.wmf" ContentType="image/x-wmf"/>
  <Override PartName="/ppt/media/caralarmoff.wav" ContentType="audio/x-wav"/>
  <Override PartName="/ppt/media/bserie06.wav" ContentType="audio/x-wav"/>
  <Override PartName="/ppt/media/lzipup01.wav" ContentType="audio/x-wav"/>
  <Override PartName="/ppt/media/CHIMES.WAV" ContentType="audio/x-wav"/>
  <Override PartName="/ppt/media/LASER.WAV" ContentType="audio/x-wav"/>
  <Override PartName="/ppt/media/camera.wav" ContentType="audio/x-wav"/>
  <Override PartName="/ppt/media/zipdn102.wav" ContentType="audio/x-wav"/>
  <Override PartName="/ppt/media/zapbig0g.wav" ContentType="audio/x-wav"/>
  <Override PartName="/ppt/media/driveby.wav" ContentType="audio/x-wav"/>
  <Override PartName="/ppt/media/gunshot.wav" ContentType="audio/x-wav"/>
  <Override PartName="/ppt/media/image1.wmf" ContentType="image/x-wmf"/>
  <Override PartName="/ppt/media/projctor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FE-D3B9-427F-A257-D68CB65E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9E8-076C-4D12-AEBF-D99A038F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92D-3018-4ADA-93CD-599C5E19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6F9-BEDD-4CFF-A26D-355857BF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10D-7C76-4981-BD03-C05BDB5F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C19-0496-4E8C-A5A5-79983EEF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95A-E8FD-4887-8BD7-00D4E0C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EF7-DFC6-42D1-8F13-16CDBE6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2A3-6ECD-450D-AE0C-D463C5E0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73B1-261D-475F-BE0C-40347EB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053-C008-43A1-A7E8-6DF40893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1D1-308C-4E16-8569-3C1D74D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992C-DFE3-4DA4-9BE4-59CE21092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projctor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projctor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zipdn102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projctor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1960" y="870120"/>
            <a:ext cx="8534160" cy="1160280"/>
            <a:chOff x="291960" y="870120"/>
            <a:chExt cx="8534160" cy="1160280"/>
          </a:xfrm>
        </p:grpSpPr>
        <p:sp>
          <p:nvSpPr>
            <p:cNvPr id="43" name=""/>
            <p:cNvSpPr/>
            <p:nvPr/>
          </p:nvSpPr>
          <p:spPr>
            <a:xfrm>
              <a:off x="291960" y="870120"/>
              <a:ext cx="8534160" cy="11602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39520" y="870120"/>
              <a:ext cx="0" cy="1160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" name=""/>
          <p:cNvGraphicFramePr/>
          <p:nvPr/>
        </p:nvGraphicFramePr>
        <p:xfrm>
          <a:off x="533520" y="2065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65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1104840"/>
            <a:ext cx="1752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lop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793800"/>
            <a:ext cx="7010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The steepness of a straight lin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. The number of units the lin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ise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fall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for each unit of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u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or horizontal change fro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lef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righ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57600" y="3665520"/>
            <a:ext cx="2743200" cy="2743200"/>
            <a:chOff x="3657600" y="3665520"/>
            <a:chExt cx="2743200" cy="2743200"/>
          </a:xfrm>
        </p:grpSpPr>
        <p:sp>
          <p:nvSpPr>
            <p:cNvPr id="50" name=""/>
            <p:cNvSpPr/>
            <p:nvPr/>
          </p:nvSpPr>
          <p:spPr>
            <a:xfrm>
              <a:off x="426708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76920" y="36655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7600" y="36655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7600" y="3665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57600" y="3970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7600" y="427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7600" y="4579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57600" y="4884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600" y="51894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57600" y="5494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57992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61038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36655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7600" y="51894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flipV="1">
            <a:off x="3886200" y="3665520"/>
            <a:ext cx="2057400" cy="2743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541800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419904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76720" y="2217600"/>
            <a:ext cx="4495680" cy="3276360"/>
            <a:chOff x="3276720" y="2217600"/>
            <a:chExt cx="4495680" cy="3276360"/>
          </a:xfrm>
        </p:grpSpPr>
        <p:sp>
          <p:nvSpPr>
            <p:cNvPr id="70" name=""/>
            <p:cNvSpPr/>
            <p:nvPr/>
          </p:nvSpPr>
          <p:spPr>
            <a:xfrm>
              <a:off x="3276720" y="2217600"/>
              <a:ext cx="44956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8000"/>
                  </a:solidFill>
                  <a:latin typeface="Times New Roman"/>
                </a:rPr>
                <a:t>Rise: Difference of </a:t>
              </a:r>
              <a:r>
                <a:rPr b="1" i="1" lang="en-US" sz="2900" spc="-1" strike="noStrike">
                  <a:solidFill>
                    <a:srgbClr val="008000"/>
                  </a:solidFill>
                  <a:latin typeface="Times New Roman"/>
                </a:rPr>
                <a:t>y</a:t>
              </a:r>
              <a:r>
                <a:rPr b="1" lang="en-US" sz="2900" spc="-1" strike="noStrike">
                  <a:solidFill>
                    <a:srgbClr val="008000"/>
                  </a:solidFill>
                  <a:latin typeface="Times New Roman"/>
                </a:rPr>
                <a:t>-value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572000" y="4275000"/>
              <a:ext cx="0" cy="12189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" name=""/>
          <p:cNvGraphicFramePr/>
          <p:nvPr/>
        </p:nvGraphicFramePr>
        <p:xfrm>
          <a:off x="1523880" y="2674800"/>
          <a:ext cx="15829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674800"/>
                    <a:ext cx="15829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"/>
          <p:cNvGrpSpPr/>
          <p:nvPr/>
        </p:nvGrpSpPr>
        <p:grpSpPr>
          <a:xfrm>
            <a:off x="3272400" y="2827440"/>
            <a:ext cx="4496400" cy="1447560"/>
            <a:chOff x="3272400" y="2827440"/>
            <a:chExt cx="4496400" cy="1447560"/>
          </a:xfrm>
        </p:grpSpPr>
        <p:sp>
          <p:nvSpPr>
            <p:cNvPr id="75" name=""/>
            <p:cNvSpPr/>
            <p:nvPr/>
          </p:nvSpPr>
          <p:spPr>
            <a:xfrm>
              <a:off x="3272400" y="2827440"/>
              <a:ext cx="44964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Run: Difference of </a:t>
              </a:r>
              <a:r>
                <a:rPr b="1" i="1" lang="en-US" sz="29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-value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4275000"/>
              <a:ext cx="91440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0120" y="1246320"/>
                <a:ext cx="4224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0" name=""/>
          <p:cNvGraphicFramePr/>
          <p:nvPr/>
        </p:nvGraphicFramePr>
        <p:xfrm>
          <a:off x="5951520" y="1133640"/>
          <a:ext cx="2682720" cy="14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1520" y="1133640"/>
                    <a:ext cx="2682720" cy="14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985080" y="181620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181620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9376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58880" y="1808280"/>
                <a:ext cx="571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65640" y="18162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6064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49600" y="3024360"/>
                <a:ext cx="14857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863720" y="3838680"/>
                <a:ext cx="1386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251240" y="3090960"/>
                <a:ext cx="84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240080" y="3800520"/>
                <a:ext cx="944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86240" y="2919240"/>
                <a:ext cx="105264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080" y="1246320"/>
                <a:ext cx="43624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5937120" y="1162080"/>
          <a:ext cx="268308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7120" y="1162080"/>
                    <a:ext cx="26830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970680" y="1844640"/>
          <a:ext cx="158292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70680" y="1844640"/>
                    <a:ext cx="15829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9376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58880" y="1808280"/>
                <a:ext cx="571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365640" y="18162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86064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749600" y="3048120"/>
                <a:ext cx="1485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39960" y="3814920"/>
                <a:ext cx="1434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59320" y="3090960"/>
                <a:ext cx="519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52840" y="3822840"/>
                <a:ext cx="519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357880" y="3443400"/>
                <a:ext cx="909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7840" y="1231920"/>
                <a:ext cx="514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3812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800520" y="183024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9892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77800" y="3048120"/>
                <a:ext cx="2030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80960" y="3770280"/>
                <a:ext cx="2325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24240" y="3068640"/>
                <a:ext cx="990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491000" y="3830760"/>
                <a:ext cx="4716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05320" y="3429000"/>
                <a:ext cx="13892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820880" y="389736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56000" y="389088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7120" y="1217520"/>
                <a:ext cx="4637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0968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00520" y="183024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32576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05000" y="2951280"/>
                <a:ext cx="237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51120" y="3867120"/>
                <a:ext cx="1385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483080" y="3068640"/>
                <a:ext cx="471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37080" y="3852720"/>
                <a:ext cx="3780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495760" y="3405240"/>
                <a:ext cx="1006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63640" y="308448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98760" y="307800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0280" y="1203480"/>
                <a:ext cx="4957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,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30968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890720" y="180828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900600" y="18288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687920" y="1795320"/>
                <a:ext cx="611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77800" y="3024360"/>
                <a:ext cx="2030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77960" y="3843360"/>
                <a:ext cx="1731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224240" y="3090960"/>
                <a:ext cx="99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467240" y="385272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251320" y="2914560"/>
                <a:ext cx="15829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84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ind the slope of each line that contains these pairs of poi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66760" y="1219320"/>
                <a:ext cx="4727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6051600" y="1192320"/>
          <a:ext cx="26827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1600" y="1192320"/>
                    <a:ext cx="2682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5160" y="1874880"/>
          <a:ext cx="158256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5160" y="1874880"/>
                    <a:ext cx="1582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55840" y="1830240"/>
                <a:ext cx="5302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049480" y="1822320"/>
                <a:ext cx="571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900600" y="1828800"/>
                <a:ext cx="571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397400" y="1809720"/>
                <a:ext cx="611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45960" y="2959200"/>
                <a:ext cx="317196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00360" y="3048120"/>
                <a:ext cx="13856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43160" y="3798720"/>
                <a:ext cx="23749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46440" y="2978280"/>
                <a:ext cx="166860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46560" y="3068640"/>
                <a:ext cx="944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491000" y="3828960"/>
                <a:ext cx="4716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75440" y="2890800"/>
                <a:ext cx="15350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78040" y="3927600"/>
                <a:ext cx="6238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13160" y="3921120"/>
                <a:ext cx="623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3381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35, 13 – 7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7/12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8T13:51:00Z</dcterms:modified>
  <cp:revision>124</cp:revision>
  <dc:subject/>
  <dc:title>Slide 1</dc:title>
</cp:coreProperties>
</file>